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16.wmf" ContentType="image/x-wmf"/>
  <Override PartName="/ppt/media/image26.jpeg" ContentType="image/jpeg"/>
  <Override PartName="/ppt/media/image19.png" ContentType="image/png"/>
  <Override PartName="/ppt/media/image23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6EC-512F-4A0C-A5CA-6A9A1522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209-0956-476A-A18E-BC9A9AE0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43D-36D2-459E-9EE3-914DB442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092-DD8C-4C65-93C9-2138F2A7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339F-FE06-4ED8-932A-70A2A55F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8F66-BA62-4E1B-A2CE-9C8C39B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B63A-894F-4765-865E-ED72F87A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C20D-4A2B-42DA-A9BB-33E69918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7840-ADCE-4F52-9128-371C93AA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80C5-6AA6-43A7-82BB-F63FE25D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C117-39F7-4831-9702-11A2557D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4F2-5057-4051-999B-13186A9D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913C-5B40-4CAE-A4AD-F4E7FFFF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3D92-A3E7-4BE1-8513-B93B78F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F202-EACE-4017-889A-2AFE060D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816F-7553-4A44-BA77-81C84ED6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3FFD-A4A8-4A1C-9F2B-FE865EC2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7847-1BDB-44CB-BA39-36C82CAE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B964-A14A-47E0-9A87-C4FF6C0E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C944-E5DC-4A6F-BCEE-0E851E65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2478-4C88-41CB-9C65-69F914BF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3567-B541-4548-ADD1-76515E4C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337-2827-4B11-8FD6-9B23F0AD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5330-153F-44C2-A73E-B16ADD44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F8ED-68B1-40E1-89E1-081AB167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4BD3-3C02-4ECF-903C-5E2615B9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FD85-3257-4C6A-A3CE-B2BE3371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0F92-0791-4F4D-BB3C-346F8001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5C83-DB21-4F65-8206-16B9EF55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C017-FB7C-43C0-A413-E82809F0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28C7-F47C-473D-B58C-E919A796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954A-1EA5-4100-AB25-88626B53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13474-41BF-499E-872A-8BB63676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1ED-C476-4E83-BFDE-09EEDA9A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E7E5-5B41-4F49-A939-C8F10A68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00A0-BD7B-47A9-8CBC-23727555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D2CDF-3C04-4CE9-BE72-AFBF0141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68540-504C-4FEB-B16D-CE86BAD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A76DA-1169-4C8B-AC84-EC67E39F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674D-587D-41D1-A874-5C583307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41DB-497C-455A-9DAB-41BE01AF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940A-3F5F-446C-A8EB-02208D1E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2D8F4-06A2-48F5-9709-9F3A5228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C0E3-AD11-4932-BB80-87DDDFE9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0BB-80CF-40AD-82FC-961311D6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CB85-8C6C-47CA-95DF-2353090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F0533-A491-4DE4-9952-A1B4E8A6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BD460-6232-4867-9DAA-F41C1C9C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C2AE4-C7A2-433A-B1D5-CC66E391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55039-A7B4-46C1-AA31-A0339A5D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D46C0-318B-441D-8AB7-3683C4C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16208-16AB-4A73-97B4-BC720884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0E3D-F5EF-4B91-872C-A02838C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AE85E-9809-4EB3-BDCA-365EBDC5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F2421-7C64-4F07-BBD4-5DB4540F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B67-25D9-4804-93A4-4DB59609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E78A-16C4-4EF9-856D-23E0ACA4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C9A02-FBC7-4A1F-9B0E-F0F0ABD4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A2EBE-E625-4E0C-BFB7-022A9AFB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16ABF-0B3C-4875-A983-22DCE792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C87B4-238C-42BD-BB7A-FC93534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E8CE7-44C8-49DC-8C82-E948A643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632A7-28C3-44FF-B7DA-1B34667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CF49E-8F7B-4BEF-8D29-EE255A27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B0984-8E5D-43C5-AB6F-2A33B41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3BBE7-9A86-4DD5-A10B-7E935CAB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EB4-38F2-4A31-9A34-63128011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0A11C-5F0C-4DB1-AADC-AF93018D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49786-C466-4C42-9108-0C52BCCA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519FF-6334-4028-AE98-9292DEE4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8960-A4F2-49A2-96ED-7AFDE848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39B6F-EA64-42BE-9985-697CC853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1D8F3-D699-4865-8BD7-65FCADA4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AE48-9C79-49F0-B4E8-A3568FAC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13C55-2E5A-4123-9131-17214EBD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5C506-5FAD-48EB-B45D-94305262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78989-4C2C-4946-9280-20F772E4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8C6-4916-43C7-9959-B688A278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3BF79-1DA3-4664-9B13-827297C4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A79D4-DB0E-41EF-800B-181A4144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3D3A-2C5B-4724-B570-6936223A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3DEED-3B41-4133-A1AE-05130543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718C8-B340-46B4-9C8E-C6B167CA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C2B-1A6C-4BF1-B133-7FA47C06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40C3-8E9F-4150-8287-4CD8B2BDFF0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424D-2E1C-4B46-BF32-BE0AC8D86617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05C3-5F96-4220-AD15-C0BBAC03E73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F959-7BE6-4A17-A0B0-3D65243AB65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1395-47CC-4A4F-9F7A-72869CAEA3D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AC6C-615C-4105-8496-D61BC5A5D5B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A484-9976-42DF-B1D5-F6BEC06A516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1.jpeg"/><Relationship Id="rId3" Type="http://schemas.openxmlformats.org/officeDocument/2006/relationships/hyperlink" Target="http://sfw.so/uploads/posts/2009-11/1257432559_012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-18108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920" y="2565360"/>
            <a:ext cx="82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7d72"/>
                </a:solidFill>
                <a:latin typeface="Book Antiqua"/>
              </a:rPr>
              <a:t>РАДОСТНЫЙ СТАРЕЦ. ЖИТИЕ СЕРАФИМА САРОВСКОГО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2"/>
          <p:cNvSpPr/>
          <p:nvPr/>
        </p:nvSpPr>
        <p:spPr>
          <a:xfrm>
            <a:off x="755640" y="82404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м, при дорожке, под сосна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мень тяжёлый лежа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ец ночами бессон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есь на коленях стоя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то и зиму холодну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не смыкая оч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тоял с волей свобод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ысячу дней и но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В Ростове-на-Дону замироточил фрагмент камня, на котором молился Серафим  Саровский"/>
          <p:cNvPicPr/>
          <p:nvPr/>
        </p:nvPicPr>
        <p:blipFill>
          <a:blip r:embed="rId2"/>
          <a:stretch/>
        </p:blipFill>
        <p:spPr>
          <a:xfrm>
            <a:off x="4356000" y="2424240"/>
            <a:ext cx="2752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1"/>
          <p:cNvSpPr/>
          <p:nvPr/>
        </p:nvSpPr>
        <p:spPr>
          <a:xfrm>
            <a:off x="719280" y="692280"/>
            <a:ext cx="770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f2512"/>
                </a:solidFill>
                <a:latin typeface="Tenor Sans"/>
              </a:rPr>
              <a:t>        </a:t>
            </a:r>
            <a:r>
              <a:rPr b="1" lang="ru-RU" sz="1200" spc="-1" strike="noStrike">
                <a:solidFill>
                  <a:srgbClr val="3f2512"/>
                </a:solidFill>
                <a:latin typeface="Tenor Sans"/>
              </a:rPr>
              <a:t>После 15 лет жизни в пустыни согласился перейти в обитель, где принял новый подвиг –молчальничество, а затем  к высшему подвижничеству называемым затвором. В его монастырской келье имелись только икона с лампадой и пень, служивший стулом. В сенях поставил он деревянный гроб, чтобы всегда помнить о смертном часе, в нем он и завещал его похоронить. В затворе старец провел около пяти лет, затем новым видением Богородицы Господь повелел ему отворить двери кельи для каждого. С тех пор отец Серафим стал принимать всех, поучая ко спасению, давая нуждающимся благословения и короткие наст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https://verapravoslavnaya.ru/images/serafim_sarov-les2.jpg"/>
          <p:cNvPicPr/>
          <p:nvPr/>
        </p:nvPicPr>
        <p:blipFill>
          <a:blip r:embed="rId2"/>
          <a:stretch/>
        </p:blipFill>
        <p:spPr>
          <a:xfrm>
            <a:off x="611280" y="242100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Свято-Серафимо-Саровский мужской монастырь (Воронежская область)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077920"/>
            <a:ext cx="26319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1"/>
          <p:cNvSpPr/>
          <p:nvPr/>
        </p:nvSpPr>
        <p:spPr>
          <a:xfrm>
            <a:off x="684360" y="612720"/>
            <a:ext cx="777528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нообразны были посетители отца Серафима. В первую очередь, конечно, нуждающаяся в утешении братия монастырская, а затем представители всех сословий и слоев населения и богатые и бедные и государственные мужи и простолюдины. Ко всем одинаково относился великий Старец, всех встречал радостным Пасхальным приветствием: - Христос Воскресе! - всех называя - радость моя, - всех любовно поучая. И всякое слово подвижника простое и безыскусственное в устах его было живо, действенно и имело огромную силу, так что и поседелые воины и высокообразованные люди одинаково плакали, слушая задушевное слово Отца Серафи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verapravoslavnaya.ru/images/serafim_sarov-priem.jpg"/>
          <p:cNvPicPr/>
          <p:nvPr/>
        </p:nvPicPr>
        <p:blipFill>
          <a:blip r:embed="rId2"/>
          <a:stretch/>
        </p:blipFill>
        <p:spPr>
          <a:xfrm>
            <a:off x="2340000" y="2708280"/>
            <a:ext cx="3809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"/>
          <p:cNvSpPr/>
          <p:nvPr/>
        </p:nvSpPr>
        <p:spPr>
          <a:xfrm>
            <a:off x="647640" y="62064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етителей у батюшки Серафима стало больше: ежедневно в его келье бывало окол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0 человек. Беседы старца согревали сердце и возбуждали решительные перемены к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му. Свои наставления он основывал на слове Божием; всех, независимо от душевного устроения, благословлял и любил. По чистоте духа имел он и дар прозорливости. Кроме того, в отце Серафиме действовала благодать исц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Свобода Мнений"/>
          <p:cNvPicPr/>
          <p:nvPr/>
        </p:nvPicPr>
        <p:blipFill>
          <a:blip r:embed="rId2"/>
          <a:stretch/>
        </p:blipFill>
        <p:spPr>
          <a:xfrm>
            <a:off x="1116000" y="2236680"/>
            <a:ext cx="2664000" cy="3651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" descr=""/>
          <p:cNvPicPr/>
          <p:nvPr/>
        </p:nvPicPr>
        <p:blipFill>
          <a:blip r:embed="rId3"/>
          <a:stretch/>
        </p:blipFill>
        <p:spPr>
          <a:xfrm>
            <a:off x="4932360" y="2274840"/>
            <a:ext cx="29224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1"/>
          <p:cNvSpPr/>
          <p:nvPr/>
        </p:nvSpPr>
        <p:spPr>
          <a:xfrm>
            <a:off x="2411280" y="549360"/>
            <a:ext cx="3456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был провидцем, чудотворц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и сейчас чудотвор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его источникам, колодц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од с надеждою спеш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ы преклони пред ним голов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на иконке как жи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добрый батюшка Саров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нас помолится с т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ковин много есть на свет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на Руси довольно и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мы о том узнали, де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дивен Бог в святых сво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http://hram-s-sarovskogo.narod.ru/Serafim_Sarovsky/9.jpg"/>
          <p:cNvPicPr/>
          <p:nvPr/>
        </p:nvPicPr>
        <p:blipFill>
          <a:blip r:embed="rId2"/>
          <a:stretch/>
        </p:blipFill>
        <p:spPr>
          <a:xfrm>
            <a:off x="5940360" y="2205000"/>
            <a:ext cx="2298600" cy="2840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Преподобный Серафим Саровский"/>
          <p:cNvPicPr/>
          <p:nvPr/>
        </p:nvPicPr>
        <p:blipFill>
          <a:blip r:embed="rId3"/>
          <a:stretch/>
        </p:blipFill>
        <p:spPr>
          <a:xfrm>
            <a:off x="417600" y="1844640"/>
            <a:ext cx="17953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" descr=""/>
          <p:cNvPicPr/>
          <p:nvPr/>
        </p:nvPicPr>
        <p:blipFill>
          <a:blip r:embed="rId2"/>
          <a:stretch/>
        </p:blipFill>
        <p:spPr>
          <a:xfrm>
            <a:off x="2268360" y="333360"/>
            <a:ext cx="43912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1"/>
          <p:cNvSpPr/>
          <p:nvPr/>
        </p:nvSpPr>
        <p:spPr>
          <a:xfrm>
            <a:off x="1332000" y="69228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цель жизни – стяжание Духа Святаго – духовное преображение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е души преображенного человека – радость и любов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2"/>
          <p:cNvSpPr/>
          <p:nvPr/>
        </p:nvSpPr>
        <p:spPr>
          <a:xfrm>
            <a:off x="539640" y="2060640"/>
            <a:ext cx="79930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"Радость моя, - наставлял старец - молю тебя, стяжи дух мирен, и тогда тысячи душ спасутся около тебя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«Стяжать» - значит собрать, приобр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«Благодать Святаго Духа» - помощь Божия, которая ощущается человеком как особый свет, особый мир в душе, особая радость и теплота – и всё это вместе ни на что земное не пох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 когда старца спрашивали о том, что нужно для того, чтобы стяжать эту самую благодать Святаго Духа, то он отвечал: «Стяжите благодать Духа Святого молитвой и добрыми дела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  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годня мы можем многому научиться у нашего святого земляка: трудолюбию, смирению, милосердию, доброму отношению к людям. Ничто не даётся в этом мире так дёшево, и ничто не ценится так дорого, как вежливость и доброе отношение к людям. И мне очень хочется, чтобы в наш суровый и жестокий век все дети земной планеты стали ясными лучиками, смогли вырасти людьми высоконравственными: добрыми, трудолюбивыми, ответственными, уважающими родителей, любящими свою Родину и стремящимися помогать тем, кто нуждается в помощи. Ведь будущее нашей планеты зависит от степени духовно – нравственного состояния каждого её обит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"/>
          <p:cNvSpPr/>
          <p:nvPr/>
        </p:nvSpPr>
        <p:spPr>
          <a:xfrm>
            <a:off x="826920" y="981000"/>
            <a:ext cx="7705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ю называли Святой Русью, потому что среди ее народа действ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много святых, готовых положить жизнь за Бога и Православную в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 в одной другой христианской стране не было такого количества святых и подвижников благочес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т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войство, присущее Богу, которым он наделяет лица и 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т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люди, наделенные Богом за свою веру и добрые дела особым свой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сти и способностью творить чуд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63520" y="1412640"/>
            <a:ext cx="70801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4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7" name="Picture 2" descr="http://www.belygorod.ru/img2/Ikona/Used/352IKON2.jpg"/>
          <p:cNvPicPr/>
          <p:nvPr/>
        </p:nvPicPr>
        <p:blipFill>
          <a:blip r:embed="rId2"/>
          <a:stretch/>
        </p:blipFill>
        <p:spPr>
          <a:xfrm>
            <a:off x="3059280" y="549360"/>
            <a:ext cx="3382920" cy="41018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"/>
          <p:cNvSpPr/>
          <p:nvPr/>
        </p:nvSpPr>
        <p:spPr>
          <a:xfrm>
            <a:off x="907920" y="4994280"/>
            <a:ext cx="732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я преподобного отца Серафима Саровского чудотворц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о славится по всей Руси. Его чтут наравне с древнепрославленными свят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1"/>
          <p:cNvSpPr/>
          <p:nvPr/>
        </p:nvSpPr>
        <p:spPr>
          <a:xfrm>
            <a:off x="4005360" y="1413000"/>
            <a:ext cx="3438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Старец Божий, старец кроткий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В лаптях, с палкою простой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На руке иссохшей четки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Взор, горящий добротой.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Сколько дивного смиренья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В страстотерпческих чертах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Дивный дар богомоленья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Лег с улыбкой на устах.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Тяжким подвигом согбенный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Он идет, гонец небес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Прозорливый, вдохновенный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Полный благостных чудес.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Благодатной силой веет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На молящих от него,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Гордый разум цепенеет</a:t>
            </a:r>
            <a:br>
              <a:rPr sz="1600"/>
            </a:br>
            <a:r>
              <a:rPr b="1" lang="ru-RU" sz="1600" spc="-1" strike="noStrike">
                <a:solidFill>
                  <a:srgbClr val="474747"/>
                </a:solidFill>
                <a:latin typeface="Helvetica Neue"/>
              </a:rPr>
              <a:t>Перед святостью 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http://p2.patriarchia.ru/084/842/1234/1IMG_11.jpg"/>
          <p:cNvPicPr/>
          <p:nvPr/>
        </p:nvPicPr>
        <p:blipFill>
          <a:blip r:embed="rId2"/>
          <a:stretch/>
        </p:blipFill>
        <p:spPr>
          <a:xfrm>
            <a:off x="1116000" y="1400040"/>
            <a:ext cx="2376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"/>
          <p:cNvSpPr/>
          <p:nvPr/>
        </p:nvSpPr>
        <p:spPr>
          <a:xfrm>
            <a:off x="755640" y="692280"/>
            <a:ext cx="763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 июля 1759 года в городе Курске, в семье Исидора и Агафьи Мошниных, рождается сын. Мальчика назвали Прохором. Отец мальчика, богатый купец, был очень честным человеком, его любили все горожане. Купец понимал, что богатство может сбить человека с праведного пути, и решил построить хр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хору было 3 года, когда его отца не стало. Строительством храма стала руководить Агафья, мама Прохора. Она часто брала мальчика с собой на стройку. Однажды Агафья повела сына на самый верх строящейся колокольни. Там с Прохором произошло чу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http://serafim-library.narod.ru/IkonySerafima/images/i0408rp.jpg"/>
          <p:cNvPicPr/>
          <p:nvPr/>
        </p:nvPicPr>
        <p:blipFill>
          <a:blip r:embed="rId2"/>
          <a:stretch/>
        </p:blipFill>
        <p:spPr>
          <a:xfrm>
            <a:off x="905040" y="2421000"/>
            <a:ext cx="3090600" cy="3460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4716360" y="2386080"/>
            <a:ext cx="285444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9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755640" y="765000"/>
            <a:ext cx="756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хор учился в церковной школе с удовольствием. Много читал. А еще он очень любил бывать в церкви, смотреть на лики святых, разговаривать с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ое чудо в жизни Прохора случилось в 10 лет, когда он тяжело заболел. Почти не было надежды на то, что мальчик выжи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http://hram-s-sarovskogo.narod.ru/Serafim_Sarovsky/1.jpg"/>
          <p:cNvPicPr/>
          <p:nvPr/>
        </p:nvPicPr>
        <p:blipFill>
          <a:blip r:embed="rId2"/>
          <a:stretch/>
        </p:blipFill>
        <p:spPr>
          <a:xfrm>
            <a:off x="1116000" y="2508120"/>
            <a:ext cx="3100320" cy="3759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"/>
          <p:cNvPicPr/>
          <p:nvPr/>
        </p:nvPicPr>
        <p:blipFill>
          <a:blip r:embed="rId3"/>
          <a:stretch/>
        </p:blipFill>
        <p:spPr>
          <a:xfrm>
            <a:off x="4870440" y="2508120"/>
            <a:ext cx="277344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"/>
          <p:cNvSpPr/>
          <p:nvPr/>
        </p:nvSpPr>
        <p:spPr>
          <a:xfrm>
            <a:off x="684360" y="692280"/>
            <a:ext cx="7920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ра в Курске любили. И друзей у него было немало. А если друзья спорили о чем-нибудь и не могли прийти к согласию, то обязательно говорили: «Пойдем к Прохору. Как он скажет, так и буде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юноше исполнилось 17 лет, он твердо решил посвятить себя монашеской жизни. Прохор отправился в город Саров, где стал послушником в местной обители. Заветное желание Прохора стать монахом сбылось 15 августа 1786 года. В этот день его постригли в монахи и дали имя Сераф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2"/>
          <a:stretch/>
        </p:blipFill>
        <p:spPr>
          <a:xfrm>
            <a:off x="3486240" y="2637000"/>
            <a:ext cx="231444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"/>
          <p:cNvSpPr/>
          <p:nvPr/>
        </p:nvSpPr>
        <p:spPr>
          <a:xfrm>
            <a:off x="719280" y="692280"/>
            <a:ext cx="77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устя годы Серафим захотел жить вдали от людей, предаваясь молитвам. Он поселился в лесу, в деревянной избушке на берегу реки Сар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7488360" cy="2735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4356000" y="2085840"/>
            <a:ext cx="31291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1"/>
          <p:cNvSpPr/>
          <p:nvPr/>
        </p:nvSpPr>
        <p:spPr>
          <a:xfrm>
            <a:off x="684360" y="907920"/>
            <a:ext cx="7775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Cyr"/>
              </a:rPr>
              <a:t>Шли годы. Слух об отце Серафиме разошелся по округе. И к нему стали приходить люди. И всем он давал совет, наставление, оказывал помощь, помогал выбрать верную дорогу в жизни. Однажды три разбойника явились к нему и стали требовать деньги. Серафим отвечал, что денег у него нет, он их не берет ни у кого. Разбойники набросились на него, не веря. Серафим мог бы отбиться, у него в руках был топор. Но он вспомнил заповедь Бога не отвечать злом на зло, и отбросил топ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2666880" cy="2657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2879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3:45:57Z</dcterms:created>
  <dc:creator>БВА</dc:creator>
  <dc:description>uchportal.ru</dc:description>
  <dc:language>en-US</dc:language>
  <cp:lastModifiedBy>admin</cp:lastModifiedBy>
  <dcterms:modified xsi:type="dcterms:W3CDTF">2024-01-26T01:23:10Z</dcterms:modified>
  <cp:revision>125</cp:revision>
  <dc:subject/>
  <dc:title>Бордю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2000000000001024140</vt:lpwstr>
  </property>
</Properties>
</file>